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9CA-2C0D-47EB-82B9-E697CC6D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625-74A6-4196-87A1-3A28B546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46E-4342-4A3E-96F8-86023BED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7CF-67A0-476B-99FF-2E04E13C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4E8-2305-4676-9A35-647A918D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53D-4FC5-48F2-B7EC-4FB0CF45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3AE-F4D3-4A90-AF3A-103B2E9E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C5D-D3E8-4545-865C-44696607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D41-421A-4F4E-BFED-3864E05A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8C7-06B1-458E-A82B-6E7C5C20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D9F-0334-4CE5-B552-1C086A51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FD0-64B1-402E-8325-0E0F1BE3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4EC7-5C84-4932-8EE4-0B9AB6AF0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e Resu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GLC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Studie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Wall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1021600">
            <a:off x="323640" y="406080"/>
            <a:ext cx="343188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5327640" cy="6323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when you have little or no actual work experience in the area in which you're looking fo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n't worked befo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talents and skills you haven't used in a particular job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've had a variety of jobs in the past which aren't connected;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've done mostly temporary work in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4708440" cy="6054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ong do you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rs scan resumes in 10 to 12 seco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 or 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sume is enough for every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need to develop different res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sume should target each type of work within a specific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6120" y="1382760"/>
            <a:ext cx="839952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r resume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illingness to work hard isn’t en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n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how the employer that you can contribute to the success of the busi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pecific – name essential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skills clearl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3754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w how your ski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help the comp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40360" y="1628640"/>
            <a:ext cx="4379760" cy="4264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esume is a marketing 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exaggerate, and don’t pretend you have done things you have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truth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 stick to the cold, hard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01320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is the only thing that mat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793116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earance counts: Business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imes New Roman 12 point black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read, for spelling and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nological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education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mployers prefer this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off with a job objective or a personal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education, work and volunte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Chronologica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23:45:31Z</dcterms:created>
  <dc:creator>meridyth taylor</dc:creator>
  <dc:description/>
  <dc:language>en-US</dc:language>
  <cp:lastModifiedBy>meridyth taylor</cp:lastModifiedBy>
  <dcterms:modified xsi:type="dcterms:W3CDTF">2010-10-24T01:21:47Z</dcterms:modified>
  <cp:revision>3</cp:revision>
  <dc:subject/>
  <dc:title>The Resume </dc:title>
</cp:coreProperties>
</file>